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BCF3-A0EC-47D4-9899-3B8A64F76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EB41-656A-4E81-823D-ADE97D97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4C32-76CC-4A2E-BC2D-70D49492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ECBE-508B-4183-BE2E-A8880CA2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FBF2-0FCB-4287-B647-FE777399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F09A-FE19-4785-888A-97538E15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1FDC-4C4E-4549-9FCB-E72E8D3E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EB99-36FA-414A-98C7-B634F4CF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B24F-1E6D-42C8-8029-F79E6BC4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3EDA-DC07-4C4C-8106-D816E608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2816-94B4-4BFF-9D8D-4CEBF8DE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FB75-03A2-4A8A-8C91-652593C2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B9EC-D959-4A26-BA2F-EB1E019D6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VEST ŞI DE SUD-V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095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Geograf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057400" y="1828800"/>
            <a:ext cx="5181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Sesiunea iunie - iul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 advTm="5000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eastă regiun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ografi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 se află în partea de vest a continentului, la contactul cu Europa şi Africa. Are, în cea mai mare parte, limite marine, cele terestre fiind prezente numai în est, unde se învecinează cu Asia de Sud, şi pe o mică porţiune în nord, unde se întinde lanţul muntos Caucaz, care constituie graniţa dintre Asia şi Europa. Deşi deţine numai o şeptime din suprafaţa Asiei şi mai puţin de o zecime din populaţia acesteia, Asia de Vest şi de Sud-Vest concentrează peste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ime din ţările continentului.Totodată este regiunea din Asia cu cea mai mare varietate de populaţii: arabi, persani şi turci – care formează majoritatea, evrei, armeni, greci, azeri, georgieni ş.a. Armenii, evreii şi grecii sunt printre cele mai vechi popoare ale lumi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Vest şi de Sud-Vest este cea mai bogată regiune din lume în petrol şi gaze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 dezvoltare economică, ţările de aici au niveluri difer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, Asia de Vest şi de Sud–Vest este o regiune de platouri vechi, constând din: două peninsule, Arabia şi Asia Mică, ocupate de platouri înconjurate de munţi; Podişul Iranian, desfăşurat la est de Golful Persic; o câmpie joasă şi fertilă, Câmpia Mesopotamiei.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âmpia Mesopotamiei este singura câmpie mai întinsă din Asia de Vest şi de Sud–Vest. Este foarte fertilă, datorită celor două fluvii care 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limitează: Tigru şi Eufrat. Fertilitatea ei a favorizat încă din vechime dezvoltarea unor mari civilizaţii: sumeriană, akkadiană, babilonian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comp_i"/>
          <p:cNvPicPr/>
          <p:nvPr/>
        </p:nvPicPr>
        <p:blipFill>
          <a:blip r:embed="rId1"/>
          <a:stretch/>
        </p:blipFill>
        <p:spPr>
          <a:xfrm>
            <a:off x="5638680" y="1981080"/>
            <a:ext cx="2657520" cy="2657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ificarea ţărilor Asiei de Vest şi de Sud-V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Apropi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urcia, capitala: Ank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pru, capitala: Nico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ria, capitala: Dama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ban, capitala: Beir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srael, capitala: Ierusal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rdania, capitala: Amma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Mijloci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abia Saudită, capitala: Riy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Yemen, capitala: S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’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an, capitala: Mus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miratele Arabe Unite, capital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bu Dha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Qatar, capitala: Do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Bahrain, capitala: Mana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te ţ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menia, capitala: Erev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orgia, capitala: Tbil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erbaijan,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pital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Ba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admin2</cp:lastModifiedBy>
  <dcterms:modified xsi:type="dcterms:W3CDTF">2012-06-18T10:52:21Z</dcterms:modified>
  <cp:revision>38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